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3D3-1B61-483C-946E-F235D44B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EFE-FF38-4D6A-A5AB-E96BDB03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DD1-DC4C-4597-A82E-2A37B6F6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897-D5F0-44A3-8D20-E16C19CB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57C4-13B0-4902-9096-CF7A85C3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B4C1-3B25-49D9-ADA8-5D83BE0D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5A1B-6A7D-4952-8645-A9D793E1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DBC6-F61F-4D72-80CB-64AFAC19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AF47-7D7B-4081-91FD-A8237E1F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E974-3A84-449D-B9E0-578B90FF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28AA-3392-41CE-A311-B7B2154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078-BF19-454B-AF14-90B407F2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23C0-7D25-4321-A580-44D6AB3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CA5A-837C-42A1-BF60-D86D280B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E8F6-6B7E-4EA5-8AE2-0DC83734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A4F-4B79-4C92-A382-3C98B22C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FB26-E800-4E62-8F02-D51CB994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F34-BDEF-4DC5-A123-20B9B95F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254-884B-4010-8997-6ADD85E0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075-807A-4EFD-A45E-C54E4B68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4A4-B78E-4F18-9772-F4D0D95F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B57-33D7-41AB-9D4D-AA7C4970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4E1-BD29-4A3F-A28E-EB9F231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DBF-91E3-4CB2-9CD8-1BE3C068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4866-54A6-40B0-A78C-0D1CD7B83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B3D6-7640-4A3A-8C39-F3A958A47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000" y="1403280"/>
            <a:ext cx="8551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Обеспечение и гарантирование качества современных СБИ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блемы – отложенные и новы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0" y="6461280"/>
            <a:ext cx="20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238880" y="6461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9084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05920" y="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2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03280"/>
            <a:ext cx="9144000" cy="59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блемы гарантирования качества при аутсорсинг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Отечественная практика – работа на формальной основе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РД 11 0723 и ОСТ В 11 1010 с «важным» уточнение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 правилам поставки микросхем поставлялся объект с неопределенными свойств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ff00"/>
                </a:solidFill>
                <a:latin typeface="Times New Roman"/>
              </a:rPr>
              <a:t>…</a:t>
            </a:r>
            <a:r>
              <a:rPr b="1" i="1" lang="ru-RU" sz="2200" spc="-1" strike="noStrike">
                <a:solidFill>
                  <a:srgbClr val="00ff00"/>
                </a:solidFill>
                <a:latin typeface="Times New Roman"/>
              </a:rPr>
              <a:t>Департамент Министерства обороны по закупке электронных компонентов столкнулся с проблемами, которые едва ли предвидели отцы-основатели системы </a:t>
            </a:r>
            <a:r>
              <a:rPr b="1" i="1" lang="en-US" sz="2200" spc="-1" strike="noStrike">
                <a:solidFill>
                  <a:srgbClr val="00ff00"/>
                </a:solidFill>
                <a:latin typeface="Times New Roman"/>
              </a:rPr>
              <a:t>QML </a:t>
            </a:r>
            <a:r>
              <a:rPr b="1" i="1" lang="ru-RU" sz="2200" spc="-1" strike="noStrike">
                <a:solidFill>
                  <a:srgbClr val="00ff00"/>
                </a:solidFill>
                <a:latin typeface="Times New Roman"/>
              </a:rPr>
              <a:t>– проблемами аутсорсинга, в первую очередь, работы в режиме </a:t>
            </a:r>
            <a:r>
              <a:rPr b="1" i="1" lang="en-US" sz="2200" spc="-1" strike="noStrike">
                <a:solidFill>
                  <a:srgbClr val="00ff00"/>
                </a:solidFill>
                <a:latin typeface="Times New Roman"/>
              </a:rPr>
              <a:t>fab</a:t>
            </a:r>
            <a:r>
              <a:rPr b="1" i="1" lang="ru-RU" sz="2200" spc="-1" strike="noStrike">
                <a:solidFill>
                  <a:srgbClr val="00ff00"/>
                </a:solidFill>
                <a:latin typeface="Times New Roman"/>
              </a:rPr>
              <a:t>-</a:t>
            </a:r>
            <a:r>
              <a:rPr b="1" i="1" lang="en-US" sz="2200" spc="-1" strike="noStrike">
                <a:solidFill>
                  <a:srgbClr val="00ff00"/>
                </a:solidFill>
                <a:latin typeface="Times New Roman"/>
              </a:rPr>
              <a:t>less</a:t>
            </a:r>
            <a:r>
              <a:rPr b="1" i="1" lang="ru-RU" sz="2200" spc="-1" strike="noStrike">
                <a:solidFill>
                  <a:srgbClr val="00ff00"/>
                </a:solidFill>
                <a:latin typeface="Times New Roman"/>
              </a:rPr>
              <a:t> и с использованием «банков кристаллов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йкл Дж. Сэмпсон, руководитель Программы НАСА по электронным и электротехническим компонентам 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SA EEE Parts Program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 (Презентация для Группы Министерства Обороны по планированию в микроэлектронике 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fense Microcircuit Planning Group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MP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23 сентября 2004г., Коламбус, Огай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001000" y="228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12000" y="6461280"/>
            <a:ext cx="20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93640"/>
            <a:ext cx="914400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блемы гарантирования качества при аутсорсинг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ff00"/>
                </a:solidFill>
                <a:latin typeface="Times New Roman"/>
              </a:rPr>
              <a:t>ВРЕМЕННОЕ ПОЛОЖЕНИ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ОРЯДОК ВЫПОЛНЕНИЯ РАБОТ ПРИ ВЗАИМОДЕЙСТВИИ РАЗРАБОТЧИКА МИКРОСХЕМ И ИЗГОТОВИТЕЛЯ ПЛАСТИН С КРИСТАЛЛАМИ ЗАКАЗАННЫХ ЭЛЕМЕНТОВ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ff00"/>
                </a:solidFill>
                <a:latin typeface="Times New Roman"/>
              </a:rPr>
              <a:t>ВРЕМЕННОЕ ПОЛОЖЕНИ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Изделия электронной техники, квантовой электроники и электротехнические военного назначе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ЛАСТИНЫ С КРИСТАЛЛАМИ ЗАКАЗАННЫХ ЭЛЕМЕНТОВ. ОБЩИЕ ТЕХНИЧЕСКИЕ УСЛОВ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оки введения – 01.07.2009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раеугольный камень документов – гарантирование качества через изготовление продукции в рамках ранее верифицированных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базовых технологических проце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66640" y="0"/>
            <a:ext cx="8001000" cy="66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блемы гарантирования качества при аутсорсинг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родолж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ластины с кристаллами заказанных элементов для изготовления микросх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0,5 мкм                           0,5 мк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0,35 мк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ЭПИ                                КНИ                           ЭП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1867ВЦ2Т                   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1851ВЕ51У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6ХС1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1867ВЦ4Т                   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1874ВЕ05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6ХС2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1867ВЦ3Ф                   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1620РУ10У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3ИН1У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1867ВЦ1Ф</a:t>
            </a:r>
            <a:r>
              <a:rPr b="1" lang="ru-RU" sz="2200" spc="-1" strike="noStrike">
                <a:solidFill>
                  <a:srgbClr val="ffcc66"/>
                </a:solidFill>
                <a:latin typeface="Times New Roman"/>
              </a:rPr>
              <a:t>                   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1620РЕ4У</a:t>
            </a:r>
            <a:r>
              <a:rPr b="1" lang="ru-RU" sz="22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3АП1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1302КН1Т                                     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18АП2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1302КН2Т                                     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1875ВД2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1302КН3Т                                     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4ИН1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4ИН3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4ИН4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4АП5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4ИР1У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574ИР2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4320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3340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864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9548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1120" y="632448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68280"/>
            <a:ext cx="8937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Контроль стабильности производственного процесса (аналог периодических испытаний) - опора на стратегию базовых технологических процессов требует повышения требований к контролю стабильности (статистическому контролю) производственного процесс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Регламентация отношений «изготовитель – разработчик»             в постконтрактный пери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Порядок прекращения поддержки базового технологического процесса (на основе принципов ГОСТ В15.8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80200" y="646128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2420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145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953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5756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920" y="279360"/>
            <a:ext cx="83264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блемы гарантирования качества при аутсорсинг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</a:rPr>
              <a:t>Направления совершенствования нормативных докуме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890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Проблема морального стар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процессов и морального износа издели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действующие нормативные документы не позволяют компенсировать отказ от поддержки процесса созданием страховых запасов кристаллов / пластин / микросхем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320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3340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2864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9548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1120" y="632448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61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5920" y="3429000"/>
          <a:ext cx="8912160" cy="2976480"/>
        </p:xfrm>
        <a:graphic>
          <a:graphicData uri="http://schemas.openxmlformats.org/drawingml/2006/table">
            <a:tbl>
              <a:tblPr/>
              <a:tblGrid>
                <a:gridCol w="1620720"/>
                <a:gridCol w="1844640"/>
                <a:gridCol w="1755720"/>
                <a:gridCol w="1890720"/>
                <a:gridCol w="1800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отечественным стандарта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данным зарубежных поставщик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отечественным стандарта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данным зарубежных поставщик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Кристаллы / пласт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го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1 – 1 го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 год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– 20 л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икросхемы в герметичном корпус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– 20 л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рег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рег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икросхемы в пластмассовом корпус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боле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х л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рег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– 20 л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15920" y="2529000"/>
          <a:ext cx="8912160" cy="907920"/>
        </p:xfrm>
        <a:graphic>
          <a:graphicData uri="http://schemas.openxmlformats.org/drawingml/2006/table">
            <a:tbl>
              <a:tblPr/>
              <a:tblGrid>
                <a:gridCol w="1620720"/>
                <a:gridCol w="3600360"/>
                <a:gridCol w="3691080"/>
              </a:tblGrid>
              <a:tr h="90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зде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 стандартной упаковке поставщика в отапливаемом хранилище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 специализированной упаковке поставщика или в среде азота с точкой росы минус 65ºС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7000" y="324000"/>
            <a:ext cx="85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Проблемы качества микросхем в пластмассовом корпу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64612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266480"/>
            <a:ext cx="8893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Снижение требований ОСТ В11 0998 к микросхемам в пластмассовом корпус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рхнее значение температуры при термоциклах +125ºС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нято требование по отсутствию органи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проводится проверка герметичности и не проводится контроль содержания паров внутри корпус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проводится обнаружение посторонних частиц по уровню шум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проводится испытание на воздействие линейного ускор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проводятся испытания внешних выводов на воздействие механических нагрузок (типы 2 и 6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проводятся испытания в реальных условиях повышенной влаж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не имеет компенсации альтернативными требова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Решение: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астичная компенсация по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L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F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38535 и EIA/JEDEC Standard No.47, направленная на оценку качества и мониторинг изменения свойств пресскомпозиции / полимера: испытание на воздействие повышенной влажности под давлением при наличии и в отсутствие электрической нагрузки и на воздействие соляного тумана и д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086600" y="6248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920" y="380880"/>
            <a:ext cx="8912160" cy="68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блемы нормативной базы, доставшиеся в наследство из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XX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Испытания годной продукции – высокие затраты ресурсов при минимальной информационной отдаче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соразмер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ъемов испытаний их информатив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соразмерность затрат на испытания затратам на изготов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Гарантирование радиационной стойкости - отсутствие внятной стратегии за пределами квалификационных испыта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сутствие гибкой системы гарантирования радиационной стойкости, в том числе гарантиров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хнологическим процессом изготов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Выпадение» испытаний по подгруппе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из контекс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СТ РВ 20.57.4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Несовершенство нормативной базы микросборок и многокристальных моду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86600" y="6248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52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5920" y="380880"/>
            <a:ext cx="891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Новый «вызов»: разделение функций внутри единой «цепочки поставки» - «разбегание» участников </a:t>
            </a: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о  ее узким участкам (проектирование, изготовление фотошаблонов, обработка пластин, сборка, испытания)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Отсутствие стратегии гарантирования качества при аутсорсинге – проведении части производственного процесса на сторонних предприятиях, включая зарубежны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рмирования взаимоотношений дизайн-центров и кремниевых фабр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рмирования режима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abless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found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Отсутствие стратегии обеспечения потребителей </a:t>
            </a:r>
            <a:br>
              <a:rPr sz="2400"/>
            </a:b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в условиях морального износа издел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здания и поддержки страховых запасов пластин /кристаллов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ie bank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здания и поддержки страховых запасо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кросхем в пластмассовых корпусах, в том числе, контроля их кач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086600" y="6248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52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920" y="380880"/>
            <a:ext cx="891216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ути оптимизации объемов контрольных испыт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едение новых признаков конструктивно-технологического подобия, опирающихся  на понятие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imes New Roman"/>
              </a:rPr>
              <a:t>«базовый технологический процесс»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разрывное единство четырех элемент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единый маршрут изготовления и одинаковые режимы технологических операций (комплект технологических документов на базовый процес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единые методы, средства и критерии контроля технологического процесса (универсальный параметрический монитор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единые правила проектирования (конструктивно-технологические ограничения) для конкретных применени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одконтрольный (стабильный) технологический процесс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086600" y="6248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52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380880"/>
            <a:ext cx="8912160" cy="61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ути оптимизации объемов контрольных испытаний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ринципы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формирова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конструктивно-технологических груп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Конструктивно-технологические группы для подгрупп испытаний, предназначенных для провоцирования развития дефектов, характерных для особенностей изготовления крист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По ОСТ В11 0998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вокупность типов интегральных микросхем, обладающих конструктивной, электрической и, при необходимости, информационной и программной совместимостью и предназначенных для совместного применения (группа тип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овое правило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изготовление в одном базовом технологическом процессе + одно количество активных элементов на кристалле + один уровень стойкости к воздействию статического электрич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Конструктивно-технологические групп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для подгрупп испытаний, предназначенных для провоцирования развития дефектов, характерных для особенностей сбор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По ОСТ В11 0998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дин тип корпуса, одинаковое количество выводов, одинаковый способ монтажа кристалла и герметиз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овое правило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о же +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дин шаг между выводам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д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струкционные материалы корпуса и материал покрытия + оди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готовитель корпуса + оди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хнологический процесс сборочных опер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086600" y="6248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52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5920" y="380880"/>
            <a:ext cx="8912160" cy="78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сновы стратегии гарантирования радиационной стойкости при серийном производст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Введение в нормативную документацию двух направл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обеспечения радиационной стойкости микросхе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зготовление микросхем в технологическом процессе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 гарантированным уровнем радиационной стойкост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процессе, обеспечивающем получение характеристик физической структуры кристаллов микросхем, нечувствительных к воздействию радиационных фак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Применение в проекте микросхемы конструктивных решений, обеспечивающих требуемый уровень радиационной стойкост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схемотехнических и топологических решений, обеспечивающих неизменность функциональных и эксплуатационных характеристик микросхем в условиях деградации параметров физической структуры кристалла под влиянием радиационных воздейств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086600" y="6248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52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920" y="380880"/>
            <a:ext cx="8912160" cy="71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сновы стратегии гарантирования радиационной стойкости при серийном производст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Использование испытаний группы Е в контексте ГОСТ РВ 20.57.413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рмирование гибкой системы испытаний на радиационную стойкость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амках проведения контрольных испытаний, опирающейс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оптимизированное по затратам и рискам сочетание двух направлений обеспечения радиационной стойкости микросхе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Изготовление в «радиационно-стойком» технологическом процесс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люсы</a:t>
            </a:r>
            <a:r>
              <a:rPr b="0" lang="ru-RU" sz="1600" spc="-1" strike="noStrike">
                <a:solidFill>
                  <a:srgbClr val="00ff00"/>
                </a:solidFill>
                <a:latin typeface="Times New Roman"/>
              </a:rPr>
              <a:t>: сокращение объемов радиационных испытаний СБИС, возможность использования традиционных проектных решений при создании радиационно-стойких микросхем – сокращение времени от заказа до освоения производства стойких СБИ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00"/>
                </a:solidFill>
                <a:latin typeface="Times New Roman"/>
              </a:rPr>
              <a:t>Минусы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: значительные затраты на разработку процесса с гарантированным уровнем радиационной стойкости, высокие затраты на реализацию процесса при изготовлении серийной продукции; суммарно длительное время на получение конечного продукта, необходимость периодического подтверждения сохранения гарантированного уровня стойкости путем натурных испытаний издел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Применение «радиационно-стойких» проектных реш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Times New Roman"/>
              </a:rPr>
              <a:t>Плюсы: отсутствие затрат на разработку специальных технологий, относительно низкая стоимость изготовления готовой продукции, более короткий суммарный срок до получения радиационно-стойкого серийного издел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Минусы: затраты на разработку специальных проектных решений,  ограниченность достижимых уровней  радиационной стойкости необходимость испытаний каждого разработанного издел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086600" y="6248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52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5920" y="380880"/>
            <a:ext cx="891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Направления совершенствования нормативной базы микросборок и многокристальных модул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Основная проблема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СТ В11 1009-200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(ОТУ на микросборки и МКМ) копирует правила ОСТ В11 0998-99 в части проведения контрольных испытаний. Объемы продукции, подлежащей испытаниям, существенно превышают объемы ее потребления, а использование принципов конструктивно-технологического подобия  затруднительно из-за уникальности проектных решений практически каждого издел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редлагаемое решение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на основного объема испытаний готовых изделий испытаниями их составных частей на основе приципов, заложенных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-PRF-38534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86600" y="6248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ИИСИ 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52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5920" y="380880"/>
            <a:ext cx="8912160" cy="62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блемы гарантирования качества при аутсорсинг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Проблемы узкой специализац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изводственная база ориентирована на поддержку ограниченного числа технологий – Каждый изготовитель ориентирован на производство изделий определенных конструктивно-технологических семей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иентация на единственного изготовителя резко ограничивает возможности разработч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иентация на единственного разработчика резко ограничивает номенклатуру и качество реализуемых проек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Аутсорсинг – общемировая тенденция расширения возможностей за счет привлечения сторонних ресурсов – следств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явление разработчиков микросхем, не обладающих собственной производственной баз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явление изготовителей микросхем, не обладающих возможностями их проект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разработчиков микросхе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&gt; N 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изготов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5:49:59Z</dcterms:created>
  <dc:creator>T88</dc:creator>
  <dc:description/>
  <dc:language>en-US</dc:language>
  <cp:lastModifiedBy>student</cp:lastModifiedBy>
  <dcterms:modified xsi:type="dcterms:W3CDTF">2014-05-27T11:43:48Z</dcterms:modified>
  <cp:revision>166</cp:revision>
  <dc:subject/>
  <dc:title>Презентация PowerPoint</dc:title>
</cp:coreProperties>
</file>